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32A6-A932-4B76-91D5-C2B6AA5C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264-6D00-4A79-A7DF-FC2601D5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FF1AA-F786-40AD-8E54-458EFF00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E0A3B-D50C-41B7-9C1C-24CD1D0E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55B7F-93B0-4060-BF4E-2AB4594C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6523D-117B-490F-B6E7-45A8E56E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286A7-2017-498B-AF01-E4B8746D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F2C0B-F583-4834-8909-FA2DDE53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0FAB6-DB13-4CD1-AD0C-5602A2F8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9CF43-36BD-4D84-B84A-C7F49D1A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D3912-06E8-4BE7-B578-2EF5650B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AA116-6224-4952-B9ED-9EB24315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710-0F9D-4EAE-A27F-F2EC507D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F589E-696B-4420-AA21-0D928842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B293B-01A7-4E84-9123-41C96CCB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875F2-434E-4576-9B97-70DBFBB5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90046-1D00-4C95-8608-B4D6EE85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74D60-1925-43B8-9B1D-C94EB50A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89215-C9E3-4132-9D2B-66B41603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A9FF8-98EC-436C-B790-A315C8BD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79061-38A4-430C-8A97-C6D533E6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B3004-5D3F-427D-8DB8-11F8A2D0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04831-B75B-460D-879D-FADE734C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1835-E5E8-4B6C-A2D2-DE88957E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217BA-0592-456B-A153-F709C1E0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417D-F20D-4400-ABA9-3A7EF768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BF36-278F-4A5D-B034-C9B39DD9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D43FEB2-44B3-4A5C-8D20-464A68D7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932831-F837-41DA-8A95-0581BD1A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BB2B76-FC34-4719-9EFC-9B00BC69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D0EC7E-2F21-4FC2-A7F0-DDEB0E15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80C6CF-7911-46F4-B906-FA604027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9C2C-A346-4892-989F-74BE7334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74CEB6B-A558-4A8E-9C28-4AF7E86A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1CA55D-57B1-402E-9380-9A1CAE44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369F63-47DF-4610-A6FE-AAB86777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38F4C6-1CF8-4917-B37E-81871BE9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D9D6C6-AE36-4E69-9586-29E7BB79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320524-8BF6-40A4-9339-7D72D42B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991394D-2504-4771-B934-5822460E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A5175AC-6594-4076-8DBC-7DAECB2A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A2DCEA4-2E66-45D1-AF76-B5008BE1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C2C5A39-822B-4CFD-9F2E-171B5D35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3338-0EB3-4A74-A5D0-D756F02A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EAC5313-2FCA-444D-A32E-4CAFD4CA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D71892F-2B83-4F6E-8EF0-AA801154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6A55F3C-B62E-4B6A-BC63-5732F74E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34E09F2-A981-4B3B-80F5-8FBE257D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EE8CFEA-B4D4-42E0-90F1-97E98007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CA730FB-8232-4AE0-8C69-57E92DD2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B7FE11-7197-4DE3-8BA4-E1CE946D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5ABF1E4-AA40-4574-9410-F167BA41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BFB5677-E4F4-4A1E-8830-6DC5B370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243B5A8-E378-466C-930A-B77355E2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E48F-F5B8-449C-AAE8-BAEA0398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07D9FB1-6288-49AA-950D-108634BB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519FE60-F63C-468E-83FD-D61D9F01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7D81D4D-65F8-49FD-9881-39B92604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EB1496B-8294-4A47-8A47-824E64B4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0D7CCF4-E68E-43B8-89BB-9333F910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3A7AC43-4D39-424B-B093-19FBE843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294904D-0EEC-4AE5-8A05-40A13217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BB34948-1BA4-4F4F-BAEA-4ED9A778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D22C313-7BE0-43BF-88B2-F1A50E92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20A7528-F248-493C-B6E7-E86B25F8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7916-A9F5-4D33-AF23-61CACBF2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07A73A2-A45E-4400-8410-A21CD9AE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54D87CB-D20D-4419-8D70-3C902DB6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FAD6FF-8FC2-492A-98DB-27897A98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63DA0DC-22F9-498C-AD42-51B81C8F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1792F50-DCEC-4F8A-A6B0-751C6240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15C8C91-A537-4864-964E-CDB9B3F3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793593-85E8-44C0-BC60-DCAC7610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7FB15C7-B146-4C9A-8994-8E58DC7F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CD636F5-46BD-4FC4-8C96-8895D2C5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9FA3653-12B9-4887-A595-34358CA3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2EC7-AEF6-42EF-A252-9BC247F9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5FE2335-FEBF-460C-A374-BF6AE46A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BB00267-044F-4350-9E9D-36EB7F0E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E96AEA2-DBC0-4165-96F1-650DC74F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441D-B862-4030-A48D-CABD5EFD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3C6A-F702-4AC4-8A79-90410554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483C-2BC0-4189-95D4-7C6F38AC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9A72-3F65-4862-A09C-E3B606B8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B248-1D91-44BB-A3A2-2CDCACAF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A859-B512-4FF8-BFBD-611E9C72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310DE-BA06-4F5F-87D7-E765ADB7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C8F93-7C54-483B-B6D7-2AF0D448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26586-1E84-4C75-8EDB-D08BF90F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7C6A1-407E-4AAA-8AC7-960CAC41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1BED7-B878-494A-B4CE-3D706529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D7D4-E0E4-4B70-9075-F91E13D5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7A323-A165-40CD-A23F-28F12BB6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8BF9B-4FC9-47B7-86BD-ED8FA346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C7FBA-BE65-48C6-BEC1-456E79FC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43411-99B3-4397-B08D-1E09433A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1F8C1-4F39-42CD-8623-12DB7673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1ED07-FB95-4109-9A68-2D1D1606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3CF28-2A0C-40BF-807C-18613FD0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D017E-E705-4C15-A260-DA40A333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A080C-C8B3-49D3-85D6-1046E498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6082E-94F2-44A3-9037-2BE9CD9B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507-E12F-4A26-8BAC-BDB97849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4CF7D-FE9C-484D-8AEE-D541DC7B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2AD52-1C08-4B84-9ED9-75BCD5B7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92682-D43D-4E13-B404-CC7069D3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59D79-7B8F-4FF8-B2E5-9A97C483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C7AA9-1E37-4324-885F-BC53A6F9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8A875-BDC8-43B9-B9DE-168EC463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1A328-AC7B-4F42-8325-0492BEAE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A038F-8FDB-4D19-A179-9C28B96D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4A41C-0076-4A4D-A16E-83EB8093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33A89-5BBD-4C11-AB94-748DD5C8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578-C812-45EA-8CD0-96A15DEF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DF2CC-FC13-4FE1-972A-3B643CA6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67BA7-D2CB-4ED0-B44C-3FE3994F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F7F1A-E02B-4356-BAB6-A05F437B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7134F-8BAD-4973-9B98-DC2BC370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F0118-F369-44A9-8184-73EEA2D5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98095-2D38-4350-8AC8-1C920B36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919D7-791E-410C-9970-44168DFC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5EBE1-C255-493C-BCBE-EA751B8B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AE672-637A-4028-A258-A8628391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25D2A-4352-4636-A717-73418F5A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17E-91C6-4095-AADB-DFF6EC3D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05F34-B18F-4358-9707-F563F06A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14822-B538-418B-A316-676FC135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AED78-1465-4F34-9254-3984A098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8CC05-435B-47F3-BC9D-523D0554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BB62F-B9AB-4E20-8C33-79FA139C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E6EFB-AB73-45AD-A339-C7CCAB18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D9D58-4C14-4230-8C54-2CFAAE53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B86E5-E2EA-4C26-95AD-3BD2799F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FECE3-A28E-4E1B-BE83-A2174854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68E53-FB4C-4CEE-BA43-392CC09E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1178-7AB6-493A-96B2-E3AD36CD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E66B9-31E2-4B3A-8A82-6FF74553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525CA-D8A3-49A2-B976-133400F5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7F72A-5319-443B-8325-EFBD00AD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E9523-59CA-40DA-94C7-D707446C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96F2A-2FC5-41D3-B390-251715AD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66A7D-1210-4F79-8039-AE343E57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8BC2B-5CE3-487F-B3EF-1963F3BF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67EAB-B90A-46D7-8CFD-535FD59E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DF1DB-5660-4C32-BD70-93C13662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6F6F1-B8A6-41D1-9CE2-955CFEC0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253-C5A8-48B2-B145-E260EED0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BD49B-18B3-4B4F-B89D-D7102FA4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46A06-4C15-4928-BD23-5D74E35F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10DF5-00CB-453F-A54D-3B3DD541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7E692-2505-4F8C-915D-747004A6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1A1A6-86E6-4127-BC6E-FEB92E45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DDCFB-F4D0-43F6-96F6-6832B34B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62784-8A19-450E-A53A-4B6118C9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D0152-036C-4F1E-9AC3-50C3BF96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1DCB5-F59E-413A-81FF-D586509C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B7817-1764-4A41-9469-B6771FF5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103-AF2F-42F0-B44D-EE4A1E38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8DEE3-45BE-4A81-A7FC-C0F62DB3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C4999-3011-4BAB-886D-8E34B2EB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8D845-CAFD-4C90-82AA-C6D973FE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E75B5-B4E9-412D-8BBA-D9626CAD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BA418-B96F-489C-99FE-292E79F2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75108-6103-45E4-B987-B7F028A2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834E7-14B0-44D0-86AE-71E28D71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4B6B6-5F94-473E-97A1-E0F76A1C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3996A-B0AE-4BD4-BAAA-9365600D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FF8BD-01F7-446E-9291-C5DDF8F9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6A78D-D2E3-49CD-9FD9-72E6CF289CEE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12F8E-EBBF-48D8-919F-C739269A1B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A145F-0CED-4E12-A7EF-9BE781291410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926C6A-DDA3-406D-85C2-DC9710593B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18252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E514A-BE61-426E-9181-D52CC7CBD32A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8"/>
          <p:cNvSpPr/>
          <p:nvPr/>
        </p:nvSpPr>
        <p:spPr>
          <a:xfrm>
            <a:off x="182520" y="3281400"/>
            <a:ext cx="8788320" cy="317484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8376E-8E00-42F1-A2D5-6CB0C9DA1AE5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383544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413AB-78E7-45BC-ADF9-6C35354F3DBF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B5CBB-0257-440E-96E4-16F0006FC8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53AB7-51E3-4F7F-BF57-B9AFE2C6E58E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1C0C1-883A-41CC-AE78-83DBA53F0C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wireframeOverlay-VerticalTC.png"/>
          <p:cNvPicPr/>
          <p:nvPr/>
        </p:nvPicPr>
        <p:blipFill>
          <a:blip r:embed="rId5"/>
          <a:srcRect l="0" t="-93643" r="0" b="0"/>
          <a:stretch/>
        </p:blipFill>
        <p:spPr>
          <a:xfrm>
            <a:off x="7445520" y="1177920"/>
            <a:ext cx="1523880" cy="527544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FD76F-CB15-40CF-A89E-D201267B3C79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EF8D2-B53B-4620-8D26-0B36338896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8"/>
          <p:cNvSpPr/>
          <p:nvPr/>
        </p:nvSpPr>
        <p:spPr>
          <a:xfrm>
            <a:off x="182520" y="1179360"/>
            <a:ext cx="8788320" cy="527688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10" descr="DirectionalButtons-LeftOnlyOnly.png"/>
          <p:cNvPicPr/>
          <p:nvPr/>
        </p:nvPicPr>
        <p:blipFill>
          <a:blip r:embed="rId5"/>
          <a:stretch/>
        </p:blipFill>
        <p:spPr>
          <a:xfrm>
            <a:off x="7837560" y="5382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C1410-0E21-48C0-A7E7-A01B2106EE60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BA01C-D205-416D-9D94-3C80A8270A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wireframeOverlay-Home.png"/>
          <p:cNvPicPr/>
          <p:nvPr/>
        </p:nvPicPr>
        <p:blipFill>
          <a:blip r:embed="rId5"/>
          <a:srcRect l="0" t="-93970" r="0" b="0"/>
          <a:stretch/>
        </p:blipFill>
        <p:spPr>
          <a:xfrm>
            <a:off x="179280" y="1182600"/>
            <a:ext cx="8786880" cy="527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DirectionalButtons-RightOnly.png"/>
          <p:cNvPicPr/>
          <p:nvPr/>
        </p:nvPicPr>
        <p:blipFill>
          <a:blip r:embed="rId6"/>
          <a:stretch/>
        </p:blipFill>
        <p:spPr>
          <a:xfrm>
            <a:off x="7821720" y="53352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51101-E067-43E5-A466-FC2AB4F04505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08CEC-4D8C-41DC-8FC0-979D3FF7D0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91BDD-B39F-4D46-A8BB-DE310D02A928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00FD9-CF0D-4CD2-AD49-5556529CDE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wireframeOverlay-TCFull.png"/>
          <p:cNvPicPr/>
          <p:nvPr/>
        </p:nvPicPr>
        <p:blipFill>
          <a:blip r:embed="rId5"/>
          <a:srcRect l="-198725" t="0" r="0" b="0"/>
          <a:stretch/>
        </p:blipFill>
        <p:spPr>
          <a:xfrm>
            <a:off x="177840" y="1179360"/>
            <a:ext cx="8788320" cy="5276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6631C-0D5C-43AE-81E3-86A4AA8FF373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DF4A45-CE0F-494D-9246-1D9721E48C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wireframeOverlay-SectionH.png"/>
          <p:cNvPicPr/>
          <p:nvPr/>
        </p:nvPicPr>
        <p:blipFill>
          <a:blip r:embed="rId5"/>
          <a:srcRect l="0" t="0" r="-91873" b="0"/>
          <a:stretch/>
        </p:blipFill>
        <p:spPr>
          <a:xfrm>
            <a:off x="182520" y="1179360"/>
            <a:ext cx="8785440" cy="5276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99218-A5BF-4D6B-8C6B-6A32B12511A5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14BD9-E7A0-4994-93C3-99CA819236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2E69B-5381-4A92-AA64-D65B5074FFF9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92E3E-5ED5-4AA3-9D3D-205ED077AD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DFFD1-D311-4804-8760-AE528BE23CEC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CF8FE-EB4B-43BE-815C-96A4C1D0F9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FD7AB-BC50-4C83-9230-69D11C1203CF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4F914-B426-49A2-BAB3-6F06913047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wireframeOverlay-ContentCap.png"/>
          <p:cNvPicPr/>
          <p:nvPr/>
        </p:nvPicPr>
        <p:blipFill>
          <a:blip r:embed="rId5"/>
          <a:srcRect l="0" t="0" r="0" b="-135873"/>
          <a:stretch/>
        </p:blipFill>
        <p:spPr>
          <a:xfrm>
            <a:off x="182520" y="1179360"/>
            <a:ext cx="4229280" cy="5274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92D01-AC11-4BF6-ABAC-40F648CC0C88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A7FE0-E069-4175-BADA-6BF666B3D1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7600" y="2168640"/>
            <a:ext cx="8307360" cy="16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Ishmael Beah: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Calibri"/>
              </a:rPr>
              <a:t>A Long Way Gone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hapters 2 and 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17600" y="3809520"/>
            <a:ext cx="8307360" cy="7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r. Rush/ Mr. Farrel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 Muskies!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p of Afric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orldproblemsshroder.wikispaces.com/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iz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. What does Ishmael Beah experience at the beginning of Chapter 2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he meets with his moth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He wins the rap competition in Mattru Jo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He first joins with the other child soldie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He experiences flashbacks from his war experienc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iz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2. The rebels send a messenger to Mattru Jong.  What did they do to the messenger to inform the people not to resist the rebels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y gave him money to bribe the local chief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y cut off his fingers as a message not to leave the villag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y killed all of his family so that he would tell them to fle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y gave him extra food to give to the village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iz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3.  When did the rebels attack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 next da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y never did attack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(x)  Several weeks later 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y passed over the tow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iz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4. Why didn’t the rebels want the people to flee the town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y wanted to use them as human shields against the militar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y wanted them to work for them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y needed food for the soldie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y needed them to help cultivate cocain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iz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5.  At the end of the chapter, what happened to Ishmael and his friends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y ran away and escap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y were recruited into the arm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y reunited with their famil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y were given food and shelter from the rebel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ttru Jo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ho attacked Mattru Jong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hat did the government soldiers do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Bad Guys vs. Bad Guy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o is Fighting Whom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terview daily show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http://worldproblemsshroder.wikispaces.com/5.+Week+Two+%28Jan+10+to+Jan+14%29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b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UF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42" name="Picture 4" descr=""/>
          <p:cNvPicPr/>
          <p:nvPr/>
        </p:nvPicPr>
        <p:blipFill>
          <a:blip r:embed="rId2"/>
          <a:stretch/>
        </p:blipFill>
        <p:spPr>
          <a:xfrm>
            <a:off x="1577880" y="990720"/>
            <a:ext cx="7147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Government Soldiers of Sierra Leon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Gov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45" name="Picture 4" descr=""/>
          <p:cNvPicPr/>
          <p:nvPr/>
        </p:nvPicPr>
        <p:blipFill>
          <a:blip r:embed="rId2"/>
          <a:stretch/>
        </p:blipFill>
        <p:spPr>
          <a:xfrm>
            <a:off x="1104840" y="2600280"/>
            <a:ext cx="7620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at you will do today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17240" y="2676600"/>
            <a:ext cx="384012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b6f2"/>
                </a:solidFill>
                <a:latin typeface="Calibri"/>
              </a:rPr>
              <a:t>What you will do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17240" y="3308040"/>
            <a:ext cx="384012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Quia- Chapter 1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Discussion book so fa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hapter 2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hapter 3- Attack on Mattru Jo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frica Map Review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73320" y="2676600"/>
            <a:ext cx="384012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b6f2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873320" y="3308040"/>
            <a:ext cx="384012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olutions to contemporary problem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xplain how scarcity influences decision mak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imilariti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Government and the Rebels both killed innocent civilia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Both use child soldie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Both want diamond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48" name="Picture 3" descr=""/>
          <p:cNvPicPr/>
          <p:nvPr/>
        </p:nvPicPr>
        <p:blipFill>
          <a:blip r:embed="rId2"/>
          <a:stretch/>
        </p:blipFill>
        <p:spPr>
          <a:xfrm>
            <a:off x="5299200" y="32590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4" descr=""/>
          <p:cNvPicPr/>
          <p:nvPr/>
        </p:nvPicPr>
        <p:blipFill>
          <a:blip r:embed="rId3"/>
          <a:stretch/>
        </p:blipFill>
        <p:spPr>
          <a:xfrm>
            <a:off x="3324240" y="4935600"/>
            <a:ext cx="3048120" cy="248904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5" descr=""/>
          <p:cNvPicPr/>
          <p:nvPr/>
        </p:nvPicPr>
        <p:blipFill>
          <a:blip r:embed="rId4"/>
          <a:stretch/>
        </p:blipFill>
        <p:spPr>
          <a:xfrm>
            <a:off x="507960" y="4941720"/>
            <a:ext cx="328932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Grad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issing Work ends in losing point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ore than 2 days missing, your grade drop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Expectation Shee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ollins/ Graphic Organizers all du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Help Sessions- every day after school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1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a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Ques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escribe life in Sierra Leone prior to the war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hat does this tell us about the culture of Sierra Leone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hat advice does his grandmother give him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o you agree with this? Why/ Why not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ile Read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Keep your head up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Be on the correct page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ay attention. 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sk question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on’t call out. 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2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hat is PTSD?  What are flashbacks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How does he experience this in this chapter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2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How might someone like Ishmael Beah be helped when he has these experiences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3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ho is about to attack Mattru Jong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hat happens when they attack? (Graphic Organizer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untries in Afric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Sierra Leone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Liberia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Sudan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Nigeria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Senegal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Tunisia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(Know these 6 countries and 14 more= 20 total- any more you get an additional .5)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9:29:49Z</dcterms:created>
  <dc:creator>Craig Rush</dc:creator>
  <dc:description/>
  <dc:language>en-US</dc:language>
  <cp:lastModifiedBy>Craig Rush</cp:lastModifiedBy>
  <dcterms:modified xsi:type="dcterms:W3CDTF">2011-01-13T11:21:55Z</dcterms:modified>
  <cp:revision>4</cp:revision>
  <dc:subject/>
  <dc:title>Ishmael Beah: A Long Way Gone Chapters 2 and 3</dc:title>
</cp:coreProperties>
</file>